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0739-9FB4-4909-A12A-BC9586E13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149C-668B-4308-B3D4-9DA6D5FAD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E38F-C41C-44B0-B8A7-049B2888C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F7EE-0FDD-4425-B592-2B792F2FD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06B0-3F69-4795-9E74-273B3C372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E024-77AD-4CAE-A81A-4086651B2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6889-C1E6-4FE8-ABBF-0197E8C97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C328-837A-418D-B020-044064D78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03BE-B3B7-4170-BF33-C9519E64D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0618-46E3-41A0-A8C8-1DA5A60EB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6DD1-E26C-4B2E-A06F-9BE831006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EFD2-4B72-478A-BE57-AFEC7CA9A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0A12-5095-4806-BCA3-73696FD24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6776-701B-4FA9-A45B-A0E392B8E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99E6-AD16-4BDF-8644-FA9611020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C4B5-E39A-46B6-B2ED-3EE9B2A48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45F5-BEC2-4C8E-9EB3-2B9D4BC7F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0D2C-6F05-4393-BD66-E63B4D928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126C-FE71-49FF-8132-3897D8B7C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6E98-6935-4752-990A-10D24A426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7A57-3542-402C-AB14-9181551B0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69D3-65A6-47FA-B1F0-A41713354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39F6-4D8C-455C-9BC0-A178D204F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5ABA-D34C-4B72-B8B1-9E414A234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7F19-5503-4638-B33C-FF9674CB0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A701-B8A2-4BD5-801F-08BDE2277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2F83-94C9-49FA-8BB1-978CC5445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B3D0-7E0C-4BFA-BEF4-786D14057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8232-D594-4638-9264-CD47AB4E7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769C-3478-4C53-B95E-E853F6836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95B5-FB4F-4767-8F41-44ACAAB09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5EE7-B41E-4A80-8A27-685C5BE1B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9A9F-ECD1-469F-B40C-D889013EA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36B6-0BBB-4F76-87F9-D7A4E99F0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11F8-6058-4180-A240-444F670AB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D83B-752E-4C81-B1E0-99A49F666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474D-C319-4C74-9B56-58B9B0B26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E94C-9827-4F58-89A6-1DEEFC635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F18A-EEFB-4C0C-826B-2DD76ECFD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2B55-A9AF-4294-8FDA-4442EC6C1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6FC2-A49F-4351-B8D5-99B1BDB3F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9CF0-C0BA-48F1-9BED-5FF18542E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30C6-09F0-45A3-9281-02BEB89EF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E9A8-4BCE-47E1-A9A3-D5FB11D5E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26C5-D825-47E8-AE90-FC51B49C5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74A2-485B-4799-BF4B-30DD5ED01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6B08-FF69-4353-8C8C-7C5D9DAA6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8BA5-6437-4209-B8DE-431C61F00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97A7-FB71-473A-BDFE-2FF36D48A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EC86-9F80-49F6-80EB-7AA24F7DB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8E62-2ECE-4CF4-A6E8-2448D02F4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786D-5275-43D6-987D-8DED8A05B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488C-0BB8-4BF6-B0D3-DC6D6CF1B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F3F5-14AD-4F3F-A74B-5A7C33C99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F9B9BB-8306-41D9-B125-D17E2DDF97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92756B-8E1F-4FFB-8157-B7E5A15C6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CB52E0-36DD-4A11-A0AA-A7384C3251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EE7157-EB82-4565-B12B-FAF776FE7A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23A3C-1129-4A2F-BC43-C51937BEB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7C915-4D51-43E7-93EB-280FBAF1E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A0EDE-AF5C-4BC1-9B6A-5BF15F629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EF5CF-502B-4433-84C3-02DE43F94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D0B1B-DEF3-4AC8-A028-D211AD8C8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9A93A-F614-4F1B-BB40-5E6A5B087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B2C37-B9A0-41D7-A079-1E489835F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55E251-8E67-4537-B9CA-DD8D05AF3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5FCE4-11E9-499B-8950-197FB5016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7D2A0-BAF5-49AB-A8E9-9AB4C2059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4D059-CDFD-405D-8515-5F859F4C6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0F028-2220-4B87-B112-2E98C2A0B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FFF2E-FCEF-4920-B820-ACCBF9194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EB9F47-71D8-4C1C-A25D-7B0DCD974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AC0679-EAF4-4B59-8A0E-E14D5A125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52D4BA-8446-49AB-A13D-859139A9A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8928A5-9062-4488-B311-9E186C3F5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3681F8-28DC-47BD-ACBA-DCB59D9AC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E5B03C-BFAC-4B5E-BC4E-86AA971F3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4B0E1E-5579-4AC9-AF78-D46D6520D9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2EAE-3577-4E0E-9FD9-22AA760E52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80E8-BAA0-4569-A47C-651B99B30E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946B-7923-4EBB-852B-65B38F8F1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Introduction to Quality Metrics - 2</a:t>
            </a:r>
            <a:endParaRPr b="0" lang="en-US" sz="4600" spc="-1" strike="noStrike">
              <a:solidFill>
                <a:srgbClr val="000000"/>
              </a:solidFill>
              <a:latin typeface="Arial"/>
            </a:endParaRPr>
          </a:p>
        </p:txBody>
      </p:sp>
      <p:sp>
        <p:nvSpPr>
          <p:cNvPr id="114"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4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7B4C-AD0E-43EB-B3FF-8A83DCA3C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s by Severity - 1</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s by severity metric is a simple count of the number of unresolved defects listed by seve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is metric is measured at some regular interval and plotted to determine whether or not a trend exis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43E2-C2FC-4EF9-B18E-CCCBA58B4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s by Severity - 2</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a trend exists, showing progress toward the acceptable values for each seve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away from those values should raise a flag that the project is at risk of failing to satisfy the conditions of the metr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F886-EF34-4BCC-9E75-28203601FA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Problems - 1</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ric is a simple count of the number of new (non-duplicate) problems reported by customers over some time interval</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easured at regular intervals and plotted, the data can be used to identify a trend. Although, a trend may be apparent, it is more useful to determine the reasons behind the tr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EA50-5813-48B9-83FB-F08F0C7B8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Problems - 2</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for example, the number of customer-reported problems increases over time, is it because more end users are using the produ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measure the number of customers who use the product at the same intervals that you measure customer-reported problems, you might identify a cause-effect or correlation between the metric and number of end us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7C56-5D27-489B-9ACA-962A08A64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Problems - 3</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you determine that as the number of end users of the system increases the number of customer-reported problems increases, a relationship may exist between the two that suggests that you may have a serious scalability flaw in you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EC64-CB01-42B1-B252-FF47D0F1B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Problems - 4</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ther hand, is the increase related to greater demands placed on the system by end users as their experience with the product matures? With the help of profiling features, you can determine the load on the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E9AE-5F33-4F33-A1EA-8B45D696B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Satisfaction - 1</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ric is typically measured through a customer satisfaction surve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atisfi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i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atisfi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dissatisf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F866-D5A1-4862-891E-CB5AD1BF0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Satisfaction - 2</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of completely satisfied customers</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of satisfied customers</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Satisfied and completely satisfied</a:t>
            </a:r>
            <a:endParaRPr b="0" lang="en-US" sz="28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of dissatisfied customers</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Dissatisfied and completely dissatisfied</a:t>
            </a:r>
            <a:endParaRPr b="0" lang="en-US" sz="28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of non-satisfied customers</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Neutral,</a:t>
            </a:r>
            <a:r>
              <a:rPr b="0" lang="en-US" sz="2800" spc="-1" strike="noStrike">
                <a:solidFill>
                  <a:srgbClr val="000000"/>
                </a:solidFill>
                <a:latin typeface="Arial"/>
              </a:rPr>
              <a:t> </a:t>
            </a:r>
            <a:r>
              <a:rPr b="0" lang="en-US" sz="2800" spc="-1" strike="noStrike">
                <a:solidFill>
                  <a:srgbClr val="9999cc"/>
                </a:solidFill>
                <a:latin typeface="Arial"/>
              </a:rPr>
              <a:t>dissatisfied and completely dissatisfied</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9943-5A4D-45BB-95B6-440B888FA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subTitle"/>
          </p:nvPr>
        </p:nvSpPr>
        <p:spPr>
          <a:xfrm>
            <a:off x="1182600" y="3779640"/>
            <a:ext cx="6778800" cy="1655640"/>
          </a:xfrm>
          <a:prstGeom prst="rect">
            <a:avLst/>
          </a:prstGeom>
          <a:noFill/>
          <a:ln w="0">
            <a:noFill/>
          </a:ln>
        </p:spPr>
        <p:txBody>
          <a:bodyPr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opes of Three Quality Metric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5B19-A3FF-47CA-855A-C2A5F4E09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s of Three Quality Metrics</a:t>
            </a:r>
            <a:endParaRPr b="0" lang="en-US" sz="4400" spc="-1" strike="noStrike">
              <a:solidFill>
                <a:srgbClr val="000000"/>
              </a:solidFill>
              <a:latin typeface="Arial"/>
            </a:endParaRPr>
          </a:p>
        </p:txBody>
      </p:sp>
      <p:sp>
        <p:nvSpPr>
          <p:cNvPr id="167" name="Oval 4"/>
          <p:cNvSpPr/>
          <p:nvPr/>
        </p:nvSpPr>
        <p:spPr>
          <a:xfrm>
            <a:off x="1905120" y="3657600"/>
            <a:ext cx="21333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5"/>
          <p:cNvSpPr/>
          <p:nvPr/>
        </p:nvSpPr>
        <p:spPr>
          <a:xfrm>
            <a:off x="1523880" y="2971800"/>
            <a:ext cx="449604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Oval 6"/>
          <p:cNvSpPr/>
          <p:nvPr/>
        </p:nvSpPr>
        <p:spPr>
          <a:xfrm>
            <a:off x="380880" y="2133720"/>
            <a:ext cx="8534520" cy="320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7"/>
          <p:cNvSpPr/>
          <p:nvPr/>
        </p:nvSpPr>
        <p:spPr>
          <a:xfrm>
            <a:off x="2136600" y="403848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S</a:t>
            </a:r>
            <a:endParaRPr b="0" lang="en-US" sz="2400" spc="-1" strike="noStrike">
              <a:solidFill>
                <a:srgbClr val="000000"/>
              </a:solidFill>
              <a:latin typeface="Times New Roman"/>
            </a:endParaRPr>
          </a:p>
        </p:txBody>
      </p:sp>
      <p:sp>
        <p:nvSpPr>
          <p:cNvPr id="171" name="Text Box 8"/>
          <p:cNvSpPr/>
          <p:nvPr/>
        </p:nvSpPr>
        <p:spPr>
          <a:xfrm>
            <a:off x="4102560" y="358128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p:txBody>
      </p:sp>
      <p:sp>
        <p:nvSpPr>
          <p:cNvPr id="172" name="Text Box 9"/>
          <p:cNvSpPr/>
          <p:nvPr/>
        </p:nvSpPr>
        <p:spPr>
          <a:xfrm>
            <a:off x="6184800" y="3139920"/>
            <a:ext cx="234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ISF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4948-A8ED-4516-8FBD-2825C50A2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en Commonly Tracked Measures</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defec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effor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changes to the requiremen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defec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BD47-B84F-430F-86E4-8E9139FD1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Process Quality Metrics</a:t>
            </a:r>
            <a:endParaRPr b="0" lang="en-US" sz="5000" spc="-1" strike="noStrike">
              <a:solidFill>
                <a:srgbClr val="000000"/>
              </a:solidFill>
              <a:latin typeface="Arial"/>
            </a:endParaRPr>
          </a:p>
        </p:txBody>
      </p:sp>
      <p:sp>
        <p:nvSpPr>
          <p:cNvPr id="175"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C8C7-FBF2-4F7D-B622-1A0C39AA5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Metrics</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metrics are those that can be used for improving the software development and maintenanc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include the effectiveness of defect removal during development, the pattern of testing defect arrival, and the response time of the fix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4B6C-7B5E-4120-8473-DEC3C2659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end-product quality metrics, process quality metrics are less formally defined, and their practices vary greatly among software developers</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rganizations pay little attention to process quality metrics, while others have well-established software metrics programs that cover various parameters in each phase of the development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1896-FC28-4FB3-8AC3-4BFD9DEA1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Metrics</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arrival ra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effectiven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by pha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moval effectiven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3DEC-B274-4418-B075-27DAD11A6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Arrival Rate – 1 </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number of defects found during testing measured at regular intervals over some period of time</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a single value, a set of values is associated with this metric</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lotted on a graph, the data may rise, indicating a positive defect arrival rate; it may stay flat, indicating a constant defect arrival rate; or decrease, indicating a negative defect arrival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3856-8368-4D4B-83A7-DB6F8189D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Arrival Rate – 2</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of the results of this metric can be very difficul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ly, one might interpret a negative defect arrival rate to indicate that the product is improving since the number of new defects found is declining over tim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alidate this interpretation, you must eliminate certain possible causes for the dec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661C-AE77-4BCD-9970-773674DA4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Arrival Rate – 3</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t could be that test effectiveness is declining over time. In other words, the tests may only be effective at uncovering certain types of problems. Once those problems have been found, the tests are no longer eff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529B-578F-4E86-ACC9-BFF800CB81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Arrival Rate – 4</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possibility is that the test organization is understaffed and consequently is unable to adequately test the product between measurement intervals. They focus their efforts during the first interval on performing stress tests that expose many problems, followed by executing system tests during the next interval where fewer problems are uncover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2A4C-B070-4468-A335-9328B1D5D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Effectiveness - 1</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easure test effectiveness, take the number of defects found by formal tests and divide by the total number of formal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 = D</a:t>
            </a:r>
            <a:r>
              <a:rPr b="0" lang="en-US" sz="3200" spc="-1" strike="noStrike" baseline="-25000">
                <a:solidFill>
                  <a:srgbClr val="000000"/>
                </a:solidFill>
                <a:latin typeface="Arial"/>
              </a:rPr>
              <a:t>n</a:t>
            </a:r>
            <a:r>
              <a:rPr b="0" lang="en-US" sz="3200" spc="-1" strike="noStrike">
                <a:solidFill>
                  <a:srgbClr val="000000"/>
                </a:solidFill>
                <a:latin typeface="Arial"/>
              </a:rPr>
              <a:t> / T</a:t>
            </a:r>
            <a:r>
              <a:rPr b="0" lang="en-US" sz="3200" spc="-1" strike="noStrike" baseline="-25000">
                <a:solidFill>
                  <a:srgbClr val="000000"/>
                </a:solidFill>
                <a:latin typeface="Arial"/>
              </a:rPr>
              <a:t>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2441-D36D-4E8F-A46C-FD63E7A3D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Effectiveness - 2</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alculated at regular intervals and plotted, test effectiveness can be observed over some period of tim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graph rises over time, test effectiveness may be improving. On the other hand, if the graph is falling over time, test effectiveness may be wa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3FAF-63EA-420B-8689-6D19D4149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l Software Quality Metrics</a:t>
            </a:r>
            <a:endParaRPr b="0" lang="en-US" sz="40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 time to failure (MTTF)</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dens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by seve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probl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atisf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FBDC-4D26-4E67-B399-139B8AABD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s by Phase - 1</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much less expensive in terms of resources and reputation to eliminate defects early instead of fix l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ects by phase metric is a variation of the defect arrival rate metric</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conclusion of each discreet phase of the development process, a count of the new defects is taken and plotted to observe a tr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F4C8-9C67-4218-A5CA-75B7E55E0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s by Phase - 2</a:t>
            </a: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graph appears to be rising, you might infer that the methods used for defect detection and removal during the earlier phases are not effective since the rate at which new defects are being discovered is increas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other hand, if the graph appears to be falling, you might conclude that early defect detection and removal is eff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CDF7-281F-4620-A796-4665E7699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s by Phase - 3</a:t>
            </a: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snowball e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AF08-E56B-4072-9C35-30DCA5FEE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ct Removal Effectiveness - 1</a:t>
            </a:r>
            <a:endParaRPr b="0" lang="en-US" sz="40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moval effectiveness can be calculated by dividing the number of defects removed prior to release by the sum of defects removed prior to release and the total number of defects that remain in the product at release. When multiplied by 100, this value can be expressed as a percentage:</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 = D</a:t>
            </a:r>
            <a:r>
              <a:rPr b="0" lang="en-US" sz="3200" spc="-1" strike="noStrike" baseline="-25000">
                <a:solidFill>
                  <a:srgbClr val="000000"/>
                </a:solidFill>
                <a:latin typeface="Arial"/>
              </a:rPr>
              <a:t>r</a:t>
            </a:r>
            <a:r>
              <a:rPr b="0" lang="en-US" sz="3200" spc="-1" strike="noStrike">
                <a:solidFill>
                  <a:srgbClr val="000000"/>
                </a:solidFill>
                <a:latin typeface="Arial"/>
              </a:rPr>
              <a:t>/(D</a:t>
            </a:r>
            <a:r>
              <a:rPr b="0" lang="en-US" sz="3200" spc="-1" strike="noStrike" baseline="-25000">
                <a:solidFill>
                  <a:srgbClr val="000000"/>
                </a:solidFill>
                <a:latin typeface="Arial"/>
              </a:rPr>
              <a:t>r</a:t>
            </a:r>
            <a:r>
              <a:rPr b="0" lang="en-US" sz="3200" spc="-1" strike="noStrike">
                <a:solidFill>
                  <a:srgbClr val="000000"/>
                </a:solidFill>
                <a:latin typeface="Arial"/>
              </a:rPr>
              <a:t> + D</a:t>
            </a:r>
            <a:r>
              <a:rPr b="0" lang="en-US" sz="3200" spc="-1" strike="noStrike" baseline="-25000">
                <a:solidFill>
                  <a:srgbClr val="000000"/>
                </a:solidFill>
                <a:latin typeface="Arial"/>
              </a:rPr>
              <a:t>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F000-9B34-4282-9965-397327310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ct Removal Effectiveness - 2</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more o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55EE-5C39-44C1-923C-5670F9398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Metrics for Software Maintenance Process</a:t>
            </a:r>
            <a:endParaRPr b="0" lang="en-US" sz="5000" spc="-1" strike="noStrike">
              <a:solidFill>
                <a:srgbClr val="000000"/>
              </a:solidFill>
              <a:latin typeface="Arial"/>
            </a:endParaRPr>
          </a:p>
        </p:txBody>
      </p:sp>
      <p:sp>
        <p:nvSpPr>
          <p:cNvPr id="220"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2D8E-0D5F-412E-9505-40050B84E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oftware product has completed its development and is released to the market, it enters into the maintenance phase of its life cycl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hase the defect arrivals by time interval and customer problem calls (which may or may not be defects) by time interval rate are the </a:t>
            </a:r>
            <a:r>
              <a:rPr b="0" i="1" lang="en-US" sz="3200" spc="-1" strike="noStrike">
                <a:solidFill>
                  <a:srgbClr val="000000"/>
                </a:solidFill>
                <a:latin typeface="Arial"/>
              </a:rPr>
              <a:t>de facto</a:t>
            </a:r>
            <a:r>
              <a:rPr b="0" lang="en-US" sz="3200" spc="-1" strike="noStrike">
                <a:solidFill>
                  <a:srgbClr val="000000"/>
                </a:solidFill>
                <a:latin typeface="Arial"/>
              </a:rPr>
              <a:t> metr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5AEF-A439-48CF-AB3E-2674BC595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number or problem arrivals is largely determined by the development process before the maintenance phase</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uch can be done to alter the quality of the product during this phase. Therefore, the </a:t>
            </a:r>
            <a:r>
              <a:rPr b="0" i="1" lang="en-US" sz="3200" spc="-1" strike="noStrike">
                <a:solidFill>
                  <a:srgbClr val="000000"/>
                </a:solidFill>
                <a:latin typeface="Arial"/>
              </a:rPr>
              <a:t>de facto</a:t>
            </a:r>
            <a:r>
              <a:rPr b="0" lang="en-US" sz="3200" spc="-1" strike="noStrike">
                <a:solidFill>
                  <a:srgbClr val="000000"/>
                </a:solidFill>
                <a:latin typeface="Arial"/>
              </a:rPr>
              <a:t> metrics, while important, do not reflect the quality of software mainten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2377-D038-4243-8A5C-689EAFF12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be done during maintenance phase is to fix the defects as soon as possible and with excellent fix qu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actions, although still not able to improve the defect rate of the product, can improve customer satisfaction to a large ex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B97E-0C43-4EE6-AC9E-B54A0B4AC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rics in Software Maintenance</a:t>
            </a: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backlo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log management inde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response tim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delinquent fix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ive fi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4AC4-8DDC-46FF-A521-3046B172B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insic product quality is usually measured by the number of “bugs” (functional defects) in the software or by how long the software can run before encountering a “crash”</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perational definitions, the two metrics are defect density (rate) and mean time to failure (MTT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BC70-5C49-4DD6-A1F9-37BDB3105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Backlog - 1</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 backlog metric is a count of the number of defects in the product following its release that require a repai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usually measured at regular intervals of time and plotted for trend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B967-F0E5-4F4A-B252-9E2F161D5F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Backlog - 2</a:t>
            </a:r>
            <a:endParaRPr b="0" lang="en-US" sz="4400" spc="-1" strike="noStrike">
              <a:solidFill>
                <a:srgbClr val="000000"/>
              </a:solidFill>
              <a:latin typeface="Arial"/>
            </a:endParaRPr>
          </a:p>
        </p:txBody>
      </p:sp>
      <p:sp>
        <p:nvSpPr>
          <p:cNvPr id="238"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itself, this metric provides very little useful information</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what does a defect backlog count of 128 tells you? Can you predict the impact of those defects on customers? Can you estimate the time it would take to repair those defects? Can you recommend changes to improve the development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5315-786F-48FA-9484-A43F2332F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Backlog - 3</a:t>
            </a: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useful way to represent the defect backlog is by defect seve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alculating the defect backlog by severity level, you can begin to draw useful conclusions from your measur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2DB2-2AD5-44B5-A8F2-509A80F13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log Management Index - 1</a:t>
            </a: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backlog is worked, new problems arrive that impact the net result of your team’s efforts to reduce the backlog</a:t>
            </a:r>
            <a:endParaRPr b="0" lang="en-US" sz="28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number of new defects exceeds the number of defects closed over some period of time, your team is losing ground to the backlog. If, on the other hand, your team closes problems faster than new ones are opened, they are gaining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C3F0-537F-4C7F-9944-ADA455B71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log Management Index - 2</a:t>
            </a:r>
            <a:endParaRPr b="0" lang="en-US" sz="4400" spc="-1" strike="noStrike">
              <a:solidFill>
                <a:srgbClr val="000000"/>
              </a:solidFill>
              <a:latin typeface="Arial"/>
            </a:endParaRPr>
          </a:p>
        </p:txBody>
      </p:sp>
      <p:sp>
        <p:nvSpPr>
          <p:cNvPr id="24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cklog management index (BMI) is calculated by dividing the number of defects closed during some period of time by the number of new defects that arrived during that same period of t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I = D</a:t>
            </a:r>
            <a:r>
              <a:rPr b="0" lang="en-US" sz="3200" spc="-1" strike="noStrike" baseline="-25000">
                <a:solidFill>
                  <a:srgbClr val="000000"/>
                </a:solidFill>
                <a:latin typeface="Arial"/>
              </a:rPr>
              <a:t>c</a:t>
            </a:r>
            <a:r>
              <a:rPr b="0" lang="en-US" sz="3200" spc="-1" strike="noStrike">
                <a:solidFill>
                  <a:srgbClr val="000000"/>
                </a:solidFill>
                <a:latin typeface="Arial"/>
              </a:rPr>
              <a:t> / D</a:t>
            </a:r>
            <a:r>
              <a:rPr b="0" lang="en-US" sz="3200" spc="-1" strike="noStrike" baseline="-25000">
                <a:solidFill>
                  <a:srgbClr val="000000"/>
                </a:solidFill>
                <a:latin typeface="Arial"/>
              </a:rPr>
              <a:t>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EFB8-BC74-4900-9FB1-7AC533774A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log Management Index - 3</a:t>
            </a:r>
            <a:endParaRPr b="0" lang="en-US" sz="4400" spc="-1" strike="noStrike">
              <a:solidFill>
                <a:srgbClr val="000000"/>
              </a:solidFill>
              <a:latin typeface="Arial"/>
            </a:endParaRPr>
          </a:p>
        </p:txBody>
      </p:sp>
      <p:sp>
        <p:nvSpPr>
          <p:cNvPr id="2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esult is greater than 1, your team is gaining ground; otherwise it is los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easurements are taken at regular intervals and plotted, a trend can be observed indicating the rate at which the backlog is growing or shrin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D7C7-AE03-42B7-8770-566D26467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 Response Time - 1</a:t>
            </a: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x response time metric is determined by calculating the average time it takes your team to fix a de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measured several different way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ases, it is the elapsed time between the discovery of the defect and the development of an unverified fix</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cases, it is the elapsed time between the discovery and the development of verified f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904D-3140-4F7B-AA15-7865276D2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 Response Time - 2</a:t>
            </a:r>
            <a:endParaRPr b="0" lang="en-US" sz="4400" spc="-1" strike="noStrike">
              <a:solidFill>
                <a:srgbClr val="000000"/>
              </a:solidFill>
              <a:latin typeface="Arial"/>
            </a:endParaRPr>
          </a:p>
        </p:txBody>
      </p:sp>
      <p:sp>
        <p:nvSpPr>
          <p:cNvPr id="25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tter alternative to this metric is fix response time by sever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D6F7-05A2-4D05-9293-F708FD88A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nt Delinquent Fixes - 1</a:t>
            </a:r>
            <a:endParaRPr b="0" lang="en-US" sz="4400" spc="-1" strike="noStrike">
              <a:solidFill>
                <a:srgbClr val="000000"/>
              </a:solidFill>
              <a:latin typeface="Arial"/>
            </a:endParaRPr>
          </a:p>
        </p:txBody>
      </p:sp>
      <p:sp>
        <p:nvSpPr>
          <p:cNvPr id="259"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x is delinquent if exceeds your fix response time criteria. In other words, if you have established a maximum fix response time of 48 hours; then fix response times that exceed 48 hours are considered delinquent</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alculate the percent delinquent fixes; divide the number of delinquent fixes by the number of non-delinquent fixes and multiply by 100</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F = (F</a:t>
            </a:r>
            <a:r>
              <a:rPr b="0" lang="en-US" sz="2800" spc="-1" strike="noStrike" baseline="-25000">
                <a:solidFill>
                  <a:srgbClr val="000000"/>
                </a:solidFill>
                <a:latin typeface="Arial"/>
              </a:rPr>
              <a:t>d</a:t>
            </a:r>
            <a:r>
              <a:rPr b="0" lang="en-US" sz="2800" spc="-1" strike="noStrike">
                <a:solidFill>
                  <a:srgbClr val="000000"/>
                </a:solidFill>
                <a:latin typeface="Arial"/>
              </a:rPr>
              <a:t> / F</a:t>
            </a:r>
            <a:r>
              <a:rPr b="0" lang="en-US" sz="2800" spc="-1" strike="noStrike" baseline="-25000">
                <a:solidFill>
                  <a:srgbClr val="000000"/>
                </a:solidFill>
                <a:latin typeface="Arial"/>
              </a:rPr>
              <a:t>n</a:t>
            </a:r>
            <a:r>
              <a:rPr b="0" lang="en-US" sz="2800" spc="-1" strike="noStrike">
                <a:solidFill>
                  <a:srgbClr val="000000"/>
                </a:solidFill>
                <a:latin typeface="Arial"/>
              </a:rPr>
              <a:t>) * 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87E8-9548-41C3-9188-1949B1E84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nt Delinquent Fixes - 2</a:t>
            </a:r>
            <a:endParaRPr b="0" lang="en-US" sz="4400" spc="-1" strike="noStrike">
              <a:solidFill>
                <a:srgbClr val="000000"/>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ric is also measured better by severity since the consequences of having a high delinquent fixes for severe defects is typically much greater than for less severe or minor de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512B-1582-4A52-948A-2C1D0D44B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 Time To Failure - 1</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n time to failure metric measures the time between failur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with safety-critical systems such as the airline traffic control systems, avionics, and weapon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air traffic control system cannot be unavailable for more than three seconds a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6B0D-7BA9-4264-8E94-DA486F18F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ive Fixes - 1</a:t>
            </a: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ect for which a fix has been prepared that later turns out to be defective or worse, creates one or more additional problems, is called a defective fi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ive fixes metric is a count of the number of such fi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E21D-9261-46DF-B7E8-4E8F9FA0B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ive Fixes - 2</a:t>
            </a:r>
            <a:endParaRPr b="0" lang="en-US" sz="4400" spc="-1" strike="noStrike">
              <a:solidFill>
                <a:srgbClr val="000000"/>
              </a:solidFill>
              <a:latin typeface="Arial"/>
            </a:endParaRPr>
          </a:p>
        </p:txBody>
      </p:sp>
      <p:sp>
        <p:nvSpPr>
          <p:cNvPr id="26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curately measure the number of defective fixes, your organization must not only keep track of defects that have been closed and then reopened but must also keep track of new defects that were caused by a defect fi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ric is also known as fix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1E0F-8ADF-4A41-8AA9-7B7174585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B1C4-5AFB-4D2C-975B-90FF42C50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7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Oriented Software Quality Assurance by Frank P. Ginac (Chapter 3)</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s and Models in Software Quality Engineering by Stephan H. Kan (Chapter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C98A-B241-4C75-B27D-3317DD231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 Time To Failure - 2</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ailure occurs when a functional unit of a software-related system can no longer perform its required function or cannot perform it within specified limi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equires that the profile of a system is available to know the toler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 time between failures (MTB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8CF3-62A1-4125-90BE-CF33F117A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Density - 1</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ect density measures the number of defects discovered per some unit of software size (lines of code, function point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ect density metric is used in many commercial software system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ect rate of a product or the expected number of defects over a certain time period is important for cost and resource estimates of the maintenance phase of the software life cycle</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D53D-2AE7-4D4A-9C79-619AC7036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Density - 2</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 density metric is used to measure the number of defects discovered per some unit of product size (KLOC or function point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your product has 10 KLOC and 127 defects were discovered during a test cycle, the defect density would be 0.0127 defects per KL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1BBB-CC17-41F9-B12C-06835F6AD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Density - 3</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 density metric can be applied during any test period; however, only the value calculated during test phases that follow system integration can be used to make predictions about the rate at which defects will be discovered by custo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9T09:03:09Z</dcterms:created>
  <dc:creator>Ghulam Ahmad Farrukh</dc:creator>
  <dc:description/>
  <dc:language>en-US</dc:language>
  <cp:lastModifiedBy>ahmadmohsin</cp:lastModifiedBy>
  <dcterms:modified xsi:type="dcterms:W3CDTF">2009-07-24T07:31:32Z</dcterms:modified>
  <cp:revision>204</cp:revision>
  <dc:subject/>
  <dc:title>Introduction to Quality Metrics - 2</dc:title>
</cp:coreProperties>
</file>